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7BB-F10F-4B10-B48A-13D998D7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9AA-9D47-45E2-A712-12D142F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F65-E0E3-4259-82FA-738CC188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6F8-2C61-424B-BDA2-E0B466EC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F37-CB53-4134-9B17-46F984FD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E04C-9819-4A9C-AB52-48554D1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96D-47C3-49E5-8C5B-9CC2E60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97D7-2991-40BA-8423-7D921FC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02FC-1C84-4261-8231-74779E1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D29-939B-4F27-AE23-CFB9A9FC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DCD2-6824-44FC-BB69-25192E2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90D-31C8-41E1-817A-ECF6AC57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C77-14F8-4684-9106-58A3794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7A5-DC48-4694-B29F-C7B1CF9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DE8A-0017-40A6-B8B9-150C7EF8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925B-C8BD-4CD1-B6F9-45596173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8F6A-0811-4E68-8615-4C608D50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125-E2FE-4B34-B0EB-A9BD50C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F33-1D03-4075-807E-CDBC09D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879-A516-43AC-9EFD-693538F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6FA-9FE7-478E-9245-41E40569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532-5C7E-4A58-9EDD-F29BA13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AC5-F9A6-49E2-9EC5-99843CAC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FAA-77E1-4F26-932E-68E8545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558-2C12-4727-984D-62A36E381D24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74A-3D7E-41C4-96A9-C8449D19DD2D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end Th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2520" y="3885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y: Disha Uppal, Allison Heicher, and Miranda Barke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ickup Time and Delivery Method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d of the day, on Wednesday, April 8t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night Delivery by UPS Grou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843280" cy="33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os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9.06 USD - Cost per unit to shi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15.00- Cost per bask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5.00- Cost of labor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314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leaning basket isn’t too expensive for us to make. Therefore, we are able to ship it at a low cost, and still make profi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ustomer’s bill would include labor, cost of the supplies, and shipping, therefore, we would make a profi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y UPS Ground? 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S Ground is the quickest, and most cost efficient method of transpor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wouldn’t make sense to ship it by air, or water, considering the place we are shipping to, and the cost of our produc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3:53:48Z</dcterms:created>
  <dc:creator>MPS MPS</dc:creator>
  <dc:description/>
  <dc:language>en-US</dc:language>
  <cp:lastModifiedBy>MPS MPS</cp:lastModifiedBy>
  <dcterms:modified xsi:type="dcterms:W3CDTF">2009-04-07T14:13:12Z</dcterms:modified>
  <cp:revision>3</cp:revision>
  <dc:subject/>
  <dc:title>Send That</dc:title>
</cp:coreProperties>
</file>